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C91A1-717A-47B6-8F02-D518A817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14D53-0CBE-443D-A013-F21752AB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C0234-AC89-47D2-BDD1-3A54E108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90110-68D8-477D-9966-C0BD74C1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7ECA-5603-4598-94ED-D28709C6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B710-73A4-4B1C-A627-68A9AAD9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F0AA-997A-4972-93C1-89FC4283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C94C-097F-484D-9F99-F2FA3FF6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C73F-44B0-4D8D-930D-3CDCAF6C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8274-D661-441D-8015-0E742AE8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B26C-8349-4FBF-A2F1-0BB39756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4688E-94CC-42F9-A116-E16EA6B8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DDF0-B5AB-4247-9BCF-AD0BA5D8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6A29-DAD4-4AE9-B5B4-7324E945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7842-961B-4E29-B9A9-03883181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C778-688E-43F2-BAFC-68128BD6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F2FB-E636-4834-8772-E36CA42C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77595-CC9F-436F-9114-AE287A64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23A9A-6178-44AD-A427-CCF299EC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EF858-1128-46C7-95A9-2ADC12DA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909E8-C054-45E8-A57D-CFD395F5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BEBEC-24D0-4195-AE48-79D7E868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61AB1-907D-4694-B9F3-AB664B56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5037B-6BA4-47EB-B65D-8743AE0A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7584-2C6D-46B0-8F3A-D98FC5720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ABDB-AB75-49CC-B59C-05E3CD933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onclads &amp; New Orle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oncl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pril 1862, Southern ports closed except for Charleston and Wilmington (N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1861, Confederates begin armoring vessels with iron pl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degar Iron Works construct two layers of two inch thick iron…gun shots would ricochet off of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rimack (C.S.S. Virgini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Guns, Iron ram to destroy wooden 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 – unreliable engines and s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– inspires hope for South, fear in the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File:CSSVirginia1862.2.ws.jpg"/>
          <p:cNvPicPr/>
          <p:nvPr/>
        </p:nvPicPr>
        <p:blipFill>
          <a:blip r:embed="rId1"/>
          <a:stretch/>
        </p:blipFill>
        <p:spPr>
          <a:xfrm>
            <a:off x="4572000" y="220968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.S.S. Moni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d by John Eric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3 months late, finished 2 weeks 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er (8 knots), revolving tur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n armoring changes navies across the globe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File:USSMonitor1862.2.ws.jpg"/>
          <p:cNvPicPr/>
          <p:nvPr/>
        </p:nvPicPr>
        <p:blipFill>
          <a:blip r:embed="rId1"/>
          <a:stretch/>
        </p:blipFill>
        <p:spPr>
          <a:xfrm>
            <a:off x="4343400" y="1981080"/>
            <a:ext cx="4495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ttle of New Orle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May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8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Orleans – largest city in the Confederacy and an international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tured by David G. Farrag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tured unopposed after sailing past outlying 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 controls almost all of the Mississippi River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4:20:41Z</dcterms:created>
  <dc:creator>Robert G. Finkbeiner</dc:creator>
  <dc:description/>
  <dc:language>en-US</dc:language>
  <cp:lastModifiedBy>PA Department of Education Classrooms for the Future</cp:lastModifiedBy>
  <dcterms:modified xsi:type="dcterms:W3CDTF">2011-12-05T19:59:01Z</dcterms:modified>
  <cp:revision>9</cp:revision>
  <dc:subject/>
  <dc:title>Ironclads &amp; New Orleans</dc:title>
</cp:coreProperties>
</file>